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637-33CC-4CFF-93AA-21A00FBB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443-5B1D-49BA-906B-25B2A9C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8FF-C68E-47B1-BE88-AF9807D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2EC-BDB8-4A0D-AE2C-5D144EB2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0037-AE09-4897-AD22-60230E16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99E-F90B-4DF7-9DDF-2AD49155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3F6-A236-4613-9ABC-BE21044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2C5-70C0-49C0-8010-46F6934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17FF-463D-4469-9F7E-4AEA1804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9344-AFDB-4F5C-84C3-301330C0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34DF-3232-46DD-90F9-E4888E5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490-0C28-455C-A832-D0714C25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794-4088-4EDC-AE7A-FC05E2EF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3DD0-B92C-449F-ADEA-90B1CFE2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DED0-8649-4538-B5F7-653E299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ABC0-58F8-41C0-85D7-E02DD1F9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E631-448D-4625-A7AE-2E0734A2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671C-6F2B-4E56-992D-E5DE561C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BF1-C4A2-4634-ABF4-C18C88CA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2F8-EBD8-4168-8FA8-94EFC56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10B-7A97-440B-B973-55CAC28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22C-E4D2-4C06-8070-3E58045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318-1A71-4F7D-94F8-47EE509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559-324F-40E3-AE17-9E6F144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0605-5BE0-4D21-80BD-FAC7B978D721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565-AB72-49C8-99F3-3F00610B9F6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184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eer Buddy Program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joy some pictures of Peer Buddies and Amazing Amigos in action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Peer Buddi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eative Arts class that meets during your scheduled Creative Arts class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lass that provides you with the opportunity to get to work closely with someone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class where you get to help the person with disabilities complete activities and assignments in his/her class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ies is more than just a clas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 a Peer Buddy YOU will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ain an understanding of what is like to have a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arn sensitivity towards someone with a disabil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m a positive relationship with a peer who has a significant disabilit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e a difference in someone else’s lif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we do in Peer Buddies class?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eer Buddy completes a series of training sessions so he/she is well prepared to work with his/h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udents are given the opportunity to have open and honest conversations about becoming a Peer Budd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er Buddy Train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ining takes place during the first 4-5 sessions of Peer Buddies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ring training you will complete a variety of activities to prepare you for working with your Peer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ocumenta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isability Resear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ensitivity Experime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Discu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Observ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n do we get to work with our buddy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ce training is completed you are assigned to a Budd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work directly with your Buddy to assist with school work and socializa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roughout the semester, you are required to complete reflective journals, attend scheduled discussion days and participate in 1 Amazing Amigos activity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do I become a Peer Buddy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mplete the interest survey given to you during advisory clas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 will be several activities coming up with the current special needs students from our STEP classrooms that will provide you with an opportunity to participate now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. Olson and Mrs. King will be using the information from your survey to sign students up for Peer Buddies class next yea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else can I do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mazing Amigos is an after-school club that welcomes all students regardless of their grade level or ability level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is club provides the students with significant special needs an opportunity to socialize and have fun with their peers outside of the school day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Amazing Amigos meets one time every month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udents can attend all of the activities or choose activities based on their personal schedule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Why do students choose to become a Peer Buddy or join Amazing Amigos?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coming Frie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derstanding that we’re all differ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ing things togethe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dicated to doing the right th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Ultra Bold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u can make a differenc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1:25:16Z</dcterms:created>
  <dc:creator>nssd112</dc:creator>
  <dc:description/>
  <dc:language>en-US</dc:language>
  <cp:lastModifiedBy>nssd112</cp:lastModifiedBy>
  <cp:lastPrinted>1904-01-01T00:00:00Z</cp:lastPrinted>
  <dcterms:modified xsi:type="dcterms:W3CDTF">2011-04-06T18:19:33Z</dcterms:modified>
  <cp:revision>14</cp:revision>
  <dc:subject/>
  <dc:title>Edgewood Middle School  Peer Buddy Program</dc:title>
</cp:coreProperties>
</file>